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jpeg" ContentType="image/jpeg"/>
  <Override PartName="/ppt/media/image54.png" ContentType="image/png"/>
  <Override PartName="/ppt/media/image53.jpeg" ContentType="image/jpeg"/>
  <Override PartName="/ppt/media/image23.png" ContentType="image/png"/>
  <Override PartName="/ppt/media/image4.jpeg" ContentType="image/jpeg"/>
  <Override PartName="/ppt/media/image61.jpeg" ContentType="image/jpeg"/>
  <Override PartName="/ppt/media/image37.jpeg" ContentType="image/jpeg"/>
  <Override PartName="/ppt/media/image57.png" ContentType="image/png"/>
  <Override PartName="/ppt/media/image2.jpeg" ContentType="image/jpeg"/>
  <Override PartName="/ppt/media/image36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14.png" ContentType="image/png"/>
  <Override PartName="/ppt/media/image56.wmf" ContentType="image/x-wmf"/>
  <Override PartName="/ppt/media/image16.png" ContentType="image/png"/>
  <Override PartName="/ppt/media/image7.jpeg" ContentType="image/jpeg"/>
  <Override PartName="/ppt/media/image38.jpeg" ContentType="image/jpeg"/>
  <Override PartName="/ppt/media/image28.png" ContentType="image/png"/>
  <Override PartName="/ppt/media/image15.png" ContentType="image/png"/>
  <Override PartName="/ppt/media/image18.jpeg" ContentType="image/jpeg"/>
  <Override PartName="/ppt/media/image19.wmf" ContentType="image/x-wmf"/>
  <Override PartName="/ppt/media/image62.jpeg" ContentType="image/jpeg"/>
  <Override PartName="/ppt/media/image63.png" ContentType="image/png"/>
  <Override PartName="/ppt/media/image24.wmf" ContentType="image/x-wmf"/>
  <Override PartName="/ppt/media/image21.jpeg" ContentType="image/jpeg"/>
  <Override PartName="/ppt/media/image22.wmf" ContentType="image/x-wmf"/>
  <Override PartName="/ppt/media/image20.jpeg" ContentType="image/jpeg"/>
  <Override PartName="/ppt/media/image59.wmf" ContentType="image/x-wmf"/>
  <Override PartName="/ppt/media/image60.png" ContentType="image/png"/>
  <Override PartName="/ppt/media/image6.jpeg" ContentType="image/jpeg"/>
  <Override PartName="/ppt/media/image29.jpeg" ContentType="image/jpeg"/>
  <Override PartName="/ppt/media/image26.jpeg" ContentType="image/jpeg"/>
  <Override PartName="/ppt/media/image42.png" ContentType="image/png"/>
  <Override PartName="/ppt/media/image11.png" ContentType="image/png"/>
  <Override PartName="/ppt/media/image50.jpeg" ContentType="image/jpeg"/>
  <Override PartName="/ppt/media/image27.jpeg" ContentType="image/jpeg"/>
  <Override PartName="/ppt/media/image5.wmf" ContentType="image/x-wmf"/>
  <Override PartName="/ppt/media/image8.png" ContentType="image/png"/>
  <Override PartName="/ppt/media/image39.jpeg" ContentType="image/jpeg"/>
  <Override PartName="/ppt/media/image17.png" ContentType="image/png"/>
  <Override PartName="/ppt/media/image52.jpeg" ContentType="image/jpeg"/>
  <Override PartName="/ppt/media/image13.png" ContentType="image/png"/>
  <Override PartName="/ppt/media/image9.png" ContentType="image/png"/>
  <Override PartName="/ppt/media/image12.png" ContentType="image/png"/>
  <Override PartName="/ppt/media/image30.jpeg" ContentType="image/jpeg"/>
  <Override PartName="/ppt/media/image31.jpeg" ContentType="image/jpeg"/>
  <Override PartName="/ppt/media/image32.png" ContentType="image/png"/>
  <Override PartName="/ppt/media/image33.jpeg" ContentType="image/jpeg"/>
  <Override PartName="/ppt/media/image34.jpeg" ContentType="image/jpeg"/>
  <Override PartName="/ppt/media/image40.wmf" ContentType="image/x-wmf"/>
  <Override PartName="/ppt/media/image3.jpeg" ContentType="image/jpeg"/>
  <Override PartName="/ppt/media/image41.png" ContentType="image/png"/>
  <Override PartName="/ppt/media/image55.jpeg" ContentType="image/jpeg"/>
  <Override PartName="/ppt/media/image43.png" ContentType="image/png"/>
  <Override PartName="/ppt/media/image44.png" ContentType="image/png"/>
  <Override PartName="/ppt/media/image49.jpeg" ContentType="image/jpeg"/>
  <Override PartName="/ppt/media/image45.wmf" ContentType="image/x-wmf"/>
  <Override PartName="/ppt/media/image46.jpeg" ContentType="image/jpeg"/>
  <Override PartName="/ppt/media/image25.wmf" ContentType="image/x-wmf"/>
  <Override PartName="/ppt/media/image47.jpeg" ContentType="image/jpeg"/>
  <Override PartName="/ppt/media/image48.jpeg" ContentType="image/jpeg"/>
  <Override PartName="/ppt/media/image5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6"/>
          </p:nvPr>
        </p:nvSpPr>
        <p:spPr>
          <a:xfrm>
            <a:off x="4008240" y="0"/>
            <a:ext cx="30668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7"/>
          </p:nvPr>
        </p:nvSpPr>
        <p:spPr>
          <a:xfrm>
            <a:off x="0" y="8551440"/>
            <a:ext cx="30672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8"/>
          </p:nvPr>
        </p:nvSpPr>
        <p:spPr>
          <a:xfrm>
            <a:off x="4008240" y="8551440"/>
            <a:ext cx="30668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9719A-85BC-4652-A3E4-902E8DB5EC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E9D0-4417-4EDA-8E56-9AEE0221A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24775-089B-4AFE-A501-BBC44CB0B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406FF-E38C-4710-90C4-5EA05B148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1765A-07E5-40FF-8CA0-3230E5659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41040" y="4276800"/>
            <a:ext cx="519444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10D75-B347-49F9-ADBC-EE0CA9CE0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DA7B1-9C5C-48F8-B97D-F48DA74AF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A7E3A-31CC-4E19-A742-233538352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AE363AD-64BF-48DB-8094-39A699431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469440" y="4176720"/>
            <a:ext cx="644868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524EC-A399-4E67-968B-7010AEE1A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6EA8843-DDA1-4C73-9814-7DF9CE53E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3AC85-3848-4B89-AEF0-BBA3C8A71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C66CD45-4B43-4909-A66C-E2185DE80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A579D-539D-4828-9C6A-21CC0DD30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6221F-A5C0-4A0D-BF4B-35950FCA4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3619A27-6CF2-4A8A-B5DD-59A74CF24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1F767-5559-4446-92FC-558EF9ADB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773E6C7-4C25-4EB3-BF85-26D1CB295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04057-30AE-4476-BF60-F9AD9DADE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836E6F9-59AB-46C5-8E96-0D265AB9B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F331C-18C8-436A-90E9-8D3824485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A9BAF74-C7CA-4351-A41D-82AD280C1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88306-3EBD-4637-A59E-3AA94DD7F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71BE151-5A74-4D48-84AA-0E546D40B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97218-6DA6-42B5-BA29-8A2B824C5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A042034-1F80-4D03-A5ED-579F7E6A1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1F7FA-29B0-4D63-BED0-3AB2D1ADD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F948488-0D91-4065-82A4-44E49ED03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8A0DB-8CE5-4C6E-80E0-779266A3F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80C84CA-E1C9-4737-8499-90B0B3BBB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88028-4404-4A36-BED0-03C29A3D4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D45EE65-7EAA-4278-B90B-841BEC01D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56204-C247-41AF-9C86-BFF8EDF1F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13C79D5-56AE-44EE-907B-E26505D36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F3EA9-428A-48FE-BC9F-E8F573C13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C0559D3-5811-426E-B211-51F65F6DE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82100-87A6-490C-AA54-E243E4080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79897A2-A4B7-4B35-B10C-A84865354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29B8-ED6F-45F9-B0C0-6AA7B428F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598452A-2AD4-433A-B2F4-03CE4EA98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8B43-A229-4E5E-8A68-67884C050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439F2-DD3E-4C21-8D35-9C6D90758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3087B-59AE-44FB-88E9-47474921A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21A15E5-CE3C-477A-8A49-D99127629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33020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8A45E-3548-46F9-9488-FE74AECD5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E229C48-2224-4989-8E7B-229D04ED7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33020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2BD71-55FA-4E59-B84C-146ADFC60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8854801-0B6D-4852-B283-55C10A854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33020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2B204-D5C0-479C-A4AE-E406FAF1E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0C1CEEB-F0F4-4221-A20D-19FBAA354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33020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DF20C-84C6-426F-B4EE-CE535EBF9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1DE9A-396D-4943-A159-9B9693305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9CB9DA7-30CB-4F09-AE44-C7EFF2112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94878-EBD1-4841-9E3C-68A393799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F83DF22-607C-438D-A0FC-B9C71CDF5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9F10B-C747-44BD-A83B-4359FC059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A8ABA-0315-41C8-B84C-50E021565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E7472-1026-4C6D-9DF4-D072961AC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462B4-67BA-4B3F-8E95-02C7A516C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16D36-7CEC-46C7-B711-C0D2EA9C6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4841A-CB5B-43CD-8267-BF0B61A4E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4F523E7-D186-4CA7-9A05-E56FAA494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27076-4A9B-4153-AF36-4CC8492C5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94B541E-010E-4006-B8E8-FA71D0014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7BE5B-E7DB-4490-AFC2-B67B75E379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42D98-9E5B-4A05-A8F7-36285C1BE5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CAE64-4F26-4EBE-A2F3-AA381FF096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A25CF-E675-4AA8-936B-D9CB9E9B6A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6998D7-502E-484E-A51C-7C74F989F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1618BB-4AAA-42AE-8158-7AB60533E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D13E62-2C5E-47FE-BC85-F464915A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F3D752-17E8-47E2-8759-5FCCC848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B60E77-C6DD-4FC1-8DDF-D0148F914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4C400D-3C56-499D-8DBF-3A6FB406B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7ADC0A-3E76-471F-937A-502050DD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66F87-2FFD-4AC9-825F-4984D80FA9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039B27-332C-4F01-95B2-DDDAF127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E902A0-C453-48DB-9720-3628D0A9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0561B3-CC04-4805-94A3-FC3AFCC93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7ED763-E5A9-4FD7-921F-FB139A02D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159C49-CEE1-4B09-A49F-B89707792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1E978-6BA0-4C61-A7EE-77548CD747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7A231-CF0E-4F01-9260-4AA6FF0E5D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4C547-43E2-405C-8465-895163282C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1E937-46D6-4C7D-8045-D0C224878D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AF01F-3DF1-45D8-B3D7-CE527E0685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9228D-89CB-4E9E-9E0F-2517048DFE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D4928-92E3-4716-8C6E-8004212EED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5DEE7-8E40-488B-8D63-92B8D72074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E9DAE-4878-4BAB-B01F-DA625A57A3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9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jpeg"/><Relationship Id="rId3" Type="http://schemas.openxmlformats.org/officeDocument/2006/relationships/image" Target="../media/image5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image" Target="../media/image19.wmf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2.wmf"/><Relationship Id="rId11" Type="http://schemas.openxmlformats.org/officeDocument/2006/relationships/image" Target="../media/image23.png"/><Relationship Id="rId12" Type="http://schemas.openxmlformats.org/officeDocument/2006/relationships/image" Target="../media/image24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7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0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Text Box 16"/>
          <p:cNvSpPr/>
          <p:nvPr/>
        </p:nvSpPr>
        <p:spPr>
          <a:xfrm>
            <a:off x="1916280" y="2286000"/>
            <a:ext cx="7075440" cy="15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Verdana"/>
              </a:rPr>
              <a:t>Контроль процессов:</a:t>
            </a: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Обращение с проб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20"/>
          <p:cNvGrpSpPr/>
          <p:nvPr/>
        </p:nvGrpSpPr>
        <p:grpSpPr>
          <a:xfrm>
            <a:off x="304920" y="1371600"/>
            <a:ext cx="8686800" cy="4800600"/>
            <a:chOff x="304920" y="1371600"/>
            <a:chExt cx="8686800" cy="4800600"/>
          </a:xfrm>
        </p:grpSpPr>
        <p:pic>
          <p:nvPicPr>
            <p:cNvPr id="277" name="Picture 2" descr="5_collection"/>
            <p:cNvPicPr/>
            <p:nvPr/>
          </p:nvPicPr>
          <p:blipFill>
            <a:blip r:embed="rId1"/>
            <a:stretch/>
          </p:blipFill>
          <p:spPr>
            <a:xfrm>
              <a:off x="2286000" y="2590920"/>
              <a:ext cx="176544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3" descr="j0409709"/>
            <p:cNvPicPr/>
            <p:nvPr/>
          </p:nvPicPr>
          <p:blipFill>
            <a:blip r:embed="rId2"/>
            <a:srcRect l="23059" t="0" r="0" b="0"/>
            <a:stretch/>
          </p:blipFill>
          <p:spPr>
            <a:xfrm>
              <a:off x="533520" y="2590920"/>
              <a:ext cx="176040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AutoShape 5"/>
            <p:cNvSpPr/>
            <p:nvPr/>
          </p:nvSpPr>
          <p:spPr>
            <a:xfrm>
              <a:off x="4876920" y="1371600"/>
              <a:ext cx="3809880" cy="14479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редоставить соответствующ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материалы и контейнер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6"/>
            <p:cNvSpPr/>
            <p:nvPr/>
          </p:nvSpPr>
          <p:spPr>
            <a:xfrm>
              <a:off x="6172200" y="4495680"/>
              <a:ext cx="2514600" cy="14479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Разработать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хорошую систему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маркировк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AutoShape 7"/>
            <p:cNvSpPr/>
            <p:nvPr/>
          </p:nvSpPr>
          <p:spPr>
            <a:xfrm>
              <a:off x="304920" y="4648320"/>
              <a:ext cx="3962160" cy="14475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Оценивать качество всех проб</a:t>
              </a:r>
              <a:r>
                <a:rPr b="1" lang="en-US" sz="2400" spc="-1" strike="noStrike">
                  <a:solidFill>
                    <a:srgbClr val="ffd911"/>
                  </a:solidFill>
                  <a:latin typeface="Verdana"/>
                </a:rPr>
                <a:t> —</a:t>
              </a:r>
              <a:br>
                <a:rPr sz="2400"/>
              </a:b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до исслед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utoShape 9"/>
            <p:cNvSpPr/>
            <p:nvPr/>
          </p:nvSpPr>
          <p:spPr>
            <a:xfrm>
              <a:off x="380880" y="1371600"/>
              <a:ext cx="3886200" cy="12193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редоставить информацию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о взятию про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Arial"/>
                </a:rPr>
                <a:t>ЧТО-КОГДА-КА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3" name="Picture 4" descr=""/>
            <p:cNvPicPr/>
            <p:nvPr/>
          </p:nvPicPr>
          <p:blipFill>
            <a:blip r:embed="rId3"/>
            <a:srcRect l="33286" t="0" r="12802" b="0"/>
            <a:stretch/>
          </p:blipFill>
          <p:spPr>
            <a:xfrm>
              <a:off x="4572000" y="4343400"/>
              <a:ext cx="1523880" cy="17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15" descr="6215_lores"/>
            <p:cNvPicPr/>
            <p:nvPr/>
          </p:nvPicPr>
          <p:blipFill>
            <a:blip r:embed="rId4"/>
            <a:srcRect l="54291" t="67985" r="18571" b="6579"/>
            <a:stretch/>
          </p:blipFill>
          <p:spPr>
            <a:xfrm>
              <a:off x="4702320" y="2819520"/>
              <a:ext cx="185076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16" descr="5_containers"/>
            <p:cNvPicPr/>
            <p:nvPr/>
          </p:nvPicPr>
          <p:blipFill>
            <a:blip r:embed="rId5"/>
            <a:stretch/>
          </p:blipFill>
          <p:spPr>
            <a:xfrm>
              <a:off x="6462720" y="2819520"/>
              <a:ext cx="9288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17" descr="5_swab_packaging"/>
            <p:cNvPicPr/>
            <p:nvPr/>
          </p:nvPicPr>
          <p:blipFill>
            <a:blip r:embed="rId6"/>
            <a:stretch/>
          </p:blipFill>
          <p:spPr>
            <a:xfrm>
              <a:off x="7315200" y="2819520"/>
              <a:ext cx="12193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AutoShape 18"/>
            <p:cNvSpPr/>
            <p:nvPr/>
          </p:nvSpPr>
          <p:spPr>
            <a:xfrm rot="5400000">
              <a:off x="7657920" y="3543120"/>
              <a:ext cx="2057400" cy="609840"/>
            </a:xfrm>
            <a:prstGeom prst="rightArrow">
              <a:avLst>
                <a:gd name="adj1" fmla="val 50000"/>
                <a:gd name="adj2" fmla="val 84342"/>
              </a:avLst>
            </a:prstGeom>
            <a:gradFill rotWithShape="0">
              <a:gsLst>
                <a:gs pos="0">
                  <a:srgbClr val="00007d"/>
                </a:gs>
                <a:gs pos="100000">
                  <a:srgbClr val="ffd911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AutoShape 19"/>
            <p:cNvSpPr/>
            <p:nvPr/>
          </p:nvSpPr>
          <p:spPr>
            <a:xfrm rot="10800000">
              <a:off x="3809520" y="5638680"/>
              <a:ext cx="2514600" cy="533520"/>
            </a:xfrm>
            <a:prstGeom prst="rightArrow">
              <a:avLst>
                <a:gd name="adj1" fmla="val 50000"/>
                <a:gd name="adj2" fmla="val 121409"/>
              </a:avLst>
            </a:prstGeom>
            <a:gradFill rotWithShape="0">
              <a:gsLst>
                <a:gs pos="0">
                  <a:srgbClr val="00007d"/>
                </a:gs>
                <a:gs pos="100000">
                  <a:srgbClr val="ffd911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AutoShape 14"/>
            <p:cNvSpPr/>
            <p:nvPr/>
          </p:nvSpPr>
          <p:spPr>
            <a:xfrm>
              <a:off x="3429000" y="2362320"/>
              <a:ext cx="1828800" cy="609480"/>
            </a:xfrm>
            <a:prstGeom prst="rightArrow">
              <a:avLst>
                <a:gd name="adj1" fmla="val 50000"/>
                <a:gd name="adj2" fmla="val 81266"/>
              </a:avLst>
            </a:prstGeom>
            <a:gradFill rotWithShape="0">
              <a:gsLst>
                <a:gs pos="0">
                  <a:srgbClr val="00007d"/>
                </a:gs>
                <a:gs pos="100000">
                  <a:srgbClr val="ffd91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Slide Number Placeholder 1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C1154-87DB-459C-954B-B6B798AC98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ooter Placeholder 1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4"/>
          <p:cNvSpPr/>
          <p:nvPr/>
        </p:nvSpPr>
        <p:spPr>
          <a:xfrm>
            <a:off x="609480" y="53352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 ответственности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прос на исследование 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4343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дентификация пациен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прашиваемые анализ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ата и время взятия проб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сточник проб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 необходим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линические данны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ли требуютс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нтактная информация врача, направившего запрос, или уполномоченного лиц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419720" y="1219320"/>
          <a:ext cx="4495680" cy="5211720"/>
        </p:xfrm>
        <a:graphic>
          <a:graphicData uri="http://schemas.openxmlformats.org/drawingml/2006/table">
            <a:tbl>
              <a:tblPr/>
              <a:tblGrid>
                <a:gridCol w="4495680"/>
              </a:tblGrid>
              <a:tr h="5369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  ПО ВЫЯВЛЕНИЮ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ПОТИРЕОЗА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РОЖДЕННЫ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___________________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а  №.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я новорожденного ____________________ Дата и время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ашний адрес ________________________  взятия проб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   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дентификационный номер пациента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_________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 при рождении _________________ кг ________________г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ница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 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ефон ______________________________________________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96" name="Rectangle 15"/>
          <p:cNvSpPr/>
          <p:nvPr/>
        </p:nvSpPr>
        <p:spPr>
          <a:xfrm>
            <a:off x="0" y="557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B4DED-5017-4495-86EC-DB749E4862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ooter Placeholder 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1039"/>
          <p:cNvSpPr/>
          <p:nvPr/>
        </p:nvSpPr>
        <p:spPr>
          <a:xfrm>
            <a:off x="351000" y="592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D1B14-05F9-410A-87DF-6FD8C32B2F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5" descr=""/>
          <p:cNvPicPr/>
          <p:nvPr/>
        </p:nvPicPr>
        <p:blipFill>
          <a:blip r:embed="rId1"/>
          <a:stretch/>
        </p:blipFill>
        <p:spPr>
          <a:xfrm>
            <a:off x="1547640" y="533520"/>
            <a:ext cx="5996160" cy="58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ебования к взятию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228240" y="1294920"/>
            <a:ext cx="792468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готовка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дентификация личности                     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ип требующейся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ип контейнера для сбор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ркиров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пециальные треб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хника безопас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5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884840" y="4165560"/>
            <a:ext cx="3954240" cy="19303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159084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" descr="6231_thumb"/>
          <p:cNvPicPr/>
          <p:nvPr/>
        </p:nvPicPr>
        <p:blipFill>
          <a:blip r:embed="rId3"/>
          <a:stretch/>
        </p:blipFill>
        <p:spPr>
          <a:xfrm rot="11535600">
            <a:off x="6044400" y="4718880"/>
            <a:ext cx="1685880" cy="1133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308" name="Picture 8" descr="Test_Bracket_patient-safety"/>
          <p:cNvPicPr/>
          <p:nvPr/>
        </p:nvPicPr>
        <p:blipFill>
          <a:blip r:embed="rId4"/>
          <a:stretch/>
        </p:blipFill>
        <p:spPr>
          <a:xfrm>
            <a:off x="5943600" y="2590920"/>
            <a:ext cx="2743200" cy="1752480"/>
          </a:xfrm>
          <a:prstGeom prst="rect">
            <a:avLst/>
          </a:prstGeom>
          <a:ln w="0">
            <a:noFill/>
          </a:ln>
        </p:spPr>
      </p:pic>
      <p:sp>
        <p:nvSpPr>
          <p:cNvPr id="309" name="Slide Number Placeholder 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82CD-F3FC-43D7-B15E-AE60212CFE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ooter Placeholder 8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4920" y="1295280"/>
            <a:ext cx="3962160" cy="3200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d911"/>
                </a:solidFill>
                <a:latin typeface="Verdana"/>
              </a:rPr>
              <a:t>Обеспечьте  информацией по взятию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12" name="Picture 5" descr="5_finger_prick_job_aid"/>
          <p:cNvPicPr/>
          <p:nvPr/>
        </p:nvPicPr>
        <p:blipFill>
          <a:blip r:embed="rId1"/>
          <a:stretch/>
        </p:blipFill>
        <p:spPr>
          <a:xfrm>
            <a:off x="4648320" y="609480"/>
            <a:ext cx="4114800" cy="5562720"/>
          </a:xfrm>
          <a:prstGeom prst="rect">
            <a:avLst/>
          </a:prstGeom>
          <a:ln w="0">
            <a:noFill/>
          </a:ln>
        </p:spPr>
      </p:pic>
      <p:sp>
        <p:nvSpPr>
          <p:cNvPr id="313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5EDDF-A505-40BC-B892-49FAE4DD3F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"/>
          <p:cNvSpPr/>
          <p:nvPr/>
        </p:nvSpPr>
        <p:spPr>
          <a:xfrm>
            <a:off x="5837400" y="684360"/>
            <a:ext cx="154764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Взятие крови из пальц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2"/>
          <p:cNvSpPr/>
          <p:nvPr/>
        </p:nvSpPr>
        <p:spPr>
          <a:xfrm>
            <a:off x="5564160" y="990720"/>
            <a:ext cx="2122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сегда используйте меры безопасности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337680"/>
            <a:ext cx="754236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Маркировк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3822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аркировка каждой пробы должна содержат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мя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дентификационный                                              номер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рашиваемый анали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и время взят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ициалы сотрудника,                                взявшего пробы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9" name="Picture 4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3578040" cy="23302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6" descr="5_label_computer"/>
          <p:cNvPicPr/>
          <p:nvPr/>
        </p:nvPicPr>
        <p:blipFill>
          <a:blip r:embed="rId2"/>
          <a:stretch/>
        </p:blipFill>
        <p:spPr>
          <a:xfrm rot="18014400">
            <a:off x="6669000" y="2639880"/>
            <a:ext cx="914400" cy="3422520"/>
          </a:xfrm>
          <a:prstGeom prst="rect">
            <a:avLst/>
          </a:prstGeom>
          <a:ln w="0">
            <a:noFill/>
          </a:ln>
        </p:spPr>
      </p:pic>
      <p:sp>
        <p:nvSpPr>
          <p:cNvPr id="321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446E8-1E2E-4841-8C5B-C9C56691FE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304920" y="5181480"/>
            <a:ext cx="75438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911"/>
                </a:solidFill>
                <a:latin typeface="Verdana"/>
              </a:rPr>
              <a:t>Используйте генерируемые компьютер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911"/>
                </a:solidFill>
                <a:latin typeface="Verdana"/>
              </a:rPr>
              <a:t>штрих коды, если возмож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3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FA623-3279-4F93-A38A-D422579D3F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27" name="AutoShape 4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AutoShape 5"/>
            <p:cNvSpPr/>
            <p:nvPr/>
          </p:nvSpPr>
          <p:spPr>
            <a:xfrm>
              <a:off x="126720" y="30304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ерели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не ту группу кров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AutoShape 6"/>
            <p:cNvSpPr/>
            <p:nvPr/>
          </p:nvSpPr>
          <p:spPr>
            <a:xfrm>
              <a:off x="1396800" y="3030480"/>
              <a:ext cx="126972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робу для анализа на совместимость неправильно подписа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utoShape 7"/>
            <p:cNvSpPr/>
            <p:nvPr/>
          </p:nvSpPr>
          <p:spPr>
            <a:xfrm>
              <a:off x="5968800" y="4146480"/>
              <a:ext cx="1269720" cy="1073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Смена дежурства при поступлении пациент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8"/>
            <p:cNvSpPr/>
            <p:nvPr/>
          </p:nvSpPr>
          <p:spPr>
            <a:xfrm>
              <a:off x="3047760" y="3030480"/>
              <a:ext cx="114300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AutoShape 9"/>
            <p:cNvSpPr/>
            <p:nvPr/>
          </p:nvSpPr>
          <p:spPr>
            <a:xfrm>
              <a:off x="7492680" y="54226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76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eb1903"/>
                  </a:solidFill>
                  <a:latin typeface="Verdana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10"/>
            <p:cNvSpPr/>
            <p:nvPr/>
          </p:nvSpPr>
          <p:spPr>
            <a:xfrm>
              <a:off x="4572000" y="1276200"/>
              <a:ext cx="1143000" cy="959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Медсестра не знает прави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utoShape 11"/>
            <p:cNvSpPr/>
            <p:nvPr/>
          </p:nvSpPr>
          <p:spPr>
            <a:xfrm>
              <a:off x="5968800" y="477720"/>
              <a:ext cx="126972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Медсестра из другого отдел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AutoShape 12"/>
            <p:cNvSpPr/>
            <p:nvPr/>
          </p:nvSpPr>
          <p:spPr>
            <a:xfrm>
              <a:off x="4572000" y="30304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Была дана устная инструкци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AutoShape 13"/>
            <p:cNvSpPr/>
            <p:nvPr/>
          </p:nvSpPr>
          <p:spPr>
            <a:xfrm>
              <a:off x="5968800" y="3030480"/>
              <a:ext cx="126972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Нелегко найти инструкции по взятию проб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AutoShape 14"/>
            <p:cNvSpPr/>
            <p:nvPr/>
          </p:nvSpPr>
          <p:spPr>
            <a:xfrm>
              <a:off x="5968800" y="1595520"/>
              <a:ext cx="126972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остоянные сотрудники больн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AutoShape 15"/>
            <p:cNvSpPr/>
            <p:nvPr/>
          </p:nvSpPr>
          <p:spPr>
            <a:xfrm>
              <a:off x="7365600" y="4146480"/>
              <a:ext cx="1143000" cy="1073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Задержка в приемном отделен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16"/>
            <p:cNvSpPr/>
            <p:nvPr/>
          </p:nvSpPr>
          <p:spPr>
            <a:xfrm>
              <a:off x="7365600" y="3030480"/>
              <a:ext cx="114300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Реоргани-зован пост медсесте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AutoShape 17"/>
            <p:cNvSpPr/>
            <p:nvPr/>
          </p:nvSpPr>
          <p:spPr>
            <a:xfrm>
              <a:off x="5867280" y="5422680"/>
              <a:ext cx="1143000" cy="1116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Пробы переданы на пост медсестер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AutoShape 18"/>
            <p:cNvSpPr/>
            <p:nvPr/>
          </p:nvSpPr>
          <p:spPr>
            <a:xfrm>
              <a:off x="4572000" y="446544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Взяты пробы у двух пациентов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19"/>
            <p:cNvSpPr/>
            <p:nvPr/>
          </p:nvSpPr>
          <p:spPr>
            <a:xfrm>
              <a:off x="1270080" y="35082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20"/>
            <p:cNvSpPr/>
            <p:nvPr/>
          </p:nvSpPr>
          <p:spPr>
            <a:xfrm>
              <a:off x="2666880" y="3508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21"/>
            <p:cNvSpPr/>
            <p:nvPr/>
          </p:nvSpPr>
          <p:spPr>
            <a:xfrm>
              <a:off x="4190760" y="3508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22"/>
            <p:cNvSpPr/>
            <p:nvPr/>
          </p:nvSpPr>
          <p:spPr>
            <a:xfrm flipV="1">
              <a:off x="4317840" y="1753560"/>
              <a:ext cx="0" cy="1754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23"/>
            <p:cNvSpPr/>
            <p:nvPr/>
          </p:nvSpPr>
          <p:spPr>
            <a:xfrm>
              <a:off x="4317840" y="17539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24"/>
            <p:cNvSpPr/>
            <p:nvPr/>
          </p:nvSpPr>
          <p:spPr>
            <a:xfrm>
              <a:off x="5842080" y="3508200"/>
              <a:ext cx="1080" cy="12765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25"/>
            <p:cNvSpPr/>
            <p:nvPr/>
          </p:nvSpPr>
          <p:spPr>
            <a:xfrm>
              <a:off x="5842080" y="478476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26"/>
            <p:cNvSpPr/>
            <p:nvPr/>
          </p:nvSpPr>
          <p:spPr>
            <a:xfrm>
              <a:off x="5715000" y="350820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27"/>
            <p:cNvSpPr/>
            <p:nvPr/>
          </p:nvSpPr>
          <p:spPr>
            <a:xfrm>
              <a:off x="7238880" y="35082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28"/>
            <p:cNvSpPr/>
            <p:nvPr/>
          </p:nvSpPr>
          <p:spPr>
            <a:xfrm>
              <a:off x="5842080" y="957240"/>
              <a:ext cx="0" cy="1116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29"/>
            <p:cNvSpPr/>
            <p:nvPr/>
          </p:nvSpPr>
          <p:spPr>
            <a:xfrm>
              <a:off x="5715000" y="159552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30"/>
            <p:cNvSpPr/>
            <p:nvPr/>
          </p:nvSpPr>
          <p:spPr>
            <a:xfrm>
              <a:off x="5842080" y="9572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31"/>
            <p:cNvSpPr/>
            <p:nvPr/>
          </p:nvSpPr>
          <p:spPr>
            <a:xfrm>
              <a:off x="5842080" y="20732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32"/>
            <p:cNvSpPr/>
            <p:nvPr/>
          </p:nvSpPr>
          <p:spPr>
            <a:xfrm>
              <a:off x="4317840" y="3508200"/>
              <a:ext cx="0" cy="14353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33"/>
            <p:cNvSpPr/>
            <p:nvPr/>
          </p:nvSpPr>
          <p:spPr>
            <a:xfrm>
              <a:off x="4317840" y="49435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34"/>
            <p:cNvSpPr/>
            <p:nvPr/>
          </p:nvSpPr>
          <p:spPr>
            <a:xfrm>
              <a:off x="7238880" y="46242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35"/>
            <p:cNvSpPr/>
            <p:nvPr/>
          </p:nvSpPr>
          <p:spPr>
            <a:xfrm>
              <a:off x="5079960" y="5422680"/>
              <a:ext cx="0" cy="478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36"/>
            <p:cNvSpPr/>
            <p:nvPr/>
          </p:nvSpPr>
          <p:spPr>
            <a:xfrm>
              <a:off x="5079960" y="5900760"/>
              <a:ext cx="711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37"/>
            <p:cNvSpPr/>
            <p:nvPr/>
          </p:nvSpPr>
          <p:spPr>
            <a:xfrm>
              <a:off x="7238880" y="590076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AutoShape 38"/>
          <p:cNvSpPr/>
          <p:nvPr/>
        </p:nvSpPr>
        <p:spPr>
          <a:xfrm>
            <a:off x="304920" y="4038480"/>
            <a:ext cx="2819160" cy="2362320"/>
          </a:xfrm>
          <a:prstGeom prst="irregularSeal2">
            <a:avLst/>
          </a:prstGeom>
          <a:solidFill>
            <a:srgbClr val="c8090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серьез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реакция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перел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кр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39"/>
          <p:cNvSpPr/>
          <p:nvPr/>
        </p:nvSpPr>
        <p:spPr>
          <a:xfrm>
            <a:off x="4648320" y="5410080"/>
            <a:ext cx="0" cy="83844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40"/>
          <p:cNvSpPr/>
          <p:nvPr/>
        </p:nvSpPr>
        <p:spPr>
          <a:xfrm>
            <a:off x="4114800" y="3886200"/>
            <a:ext cx="609480" cy="6094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41"/>
          <p:cNvSpPr/>
          <p:nvPr/>
        </p:nvSpPr>
        <p:spPr>
          <a:xfrm>
            <a:off x="4724280" y="6400800"/>
            <a:ext cx="238788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42"/>
          <p:cNvSpPr/>
          <p:nvPr/>
        </p:nvSpPr>
        <p:spPr>
          <a:xfrm>
            <a:off x="990720" y="4038480"/>
            <a:ext cx="38088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43"/>
          <p:cNvSpPr/>
          <p:nvPr/>
        </p:nvSpPr>
        <p:spPr>
          <a:xfrm>
            <a:off x="5105520" y="54100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2743200" y="2971800"/>
            <a:ext cx="1600200" cy="1313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ба не помечена при взят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46"/>
          <p:cNvSpPr/>
          <p:nvPr/>
        </p:nvSpPr>
        <p:spPr>
          <a:xfrm>
            <a:off x="7238880" y="5367240"/>
            <a:ext cx="1752840" cy="1067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b1903"/>
                </a:solidFill>
                <a:latin typeface="Verdana"/>
              </a:rPr>
              <a:t>Пробы перепут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47"/>
          <p:cNvSpPr/>
          <p:nvPr/>
        </p:nvSpPr>
        <p:spPr>
          <a:xfrm>
            <a:off x="304920" y="762120"/>
            <a:ext cx="8381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ошибки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маркировке проб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106" descr="test tube with blood"/>
          <p:cNvPicPr/>
          <p:nvPr/>
        </p:nvPicPr>
        <p:blipFill>
          <a:blip r:embed="rId3"/>
          <a:stretch/>
        </p:blipFill>
        <p:spPr>
          <a:xfrm>
            <a:off x="3413160" y="4267080"/>
            <a:ext cx="406440" cy="19051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07" descr="test tube with blood"/>
          <p:cNvPicPr/>
          <p:nvPr/>
        </p:nvPicPr>
        <p:blipFill>
          <a:blip r:embed="rId4"/>
          <a:stretch/>
        </p:blipFill>
        <p:spPr>
          <a:xfrm>
            <a:off x="3886200" y="4572000"/>
            <a:ext cx="406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следствия неправильного взятия проб:  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734840"/>
            <a:ext cx="838188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держки выдачи результатов анализов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лишние повторные взятия проб и анализ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нижение удовлетворенности заказчик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величение затра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ый диагноз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е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щерб здоровью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мерть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12A04-BF5F-4EE1-9F47-1F09EC42A2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 проведения иссле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80880" y="1336320"/>
            <a:ext cx="64008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верьт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ноту запроса на анали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ответствие проб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нные на маркировк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6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несите в журнал регистрац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именяйте критерии отказа в приеме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FBA83-03E3-4F7F-96FA-1D78F04EE3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ooter Placeholder 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8" descr="5_label_computer"/>
          <p:cNvPicPr/>
          <p:nvPr/>
        </p:nvPicPr>
        <p:blipFill>
          <a:blip r:embed="rId1"/>
          <a:stretch/>
        </p:blipFill>
        <p:spPr>
          <a:xfrm>
            <a:off x="7467480" y="1219320"/>
            <a:ext cx="990720" cy="37335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5" descr="j0434713"/>
          <p:cNvPicPr/>
          <p:nvPr/>
        </p:nvPicPr>
        <p:blipFill>
          <a:blip r:embed="rId2"/>
          <a:stretch/>
        </p:blipFill>
        <p:spPr>
          <a:xfrm>
            <a:off x="6858000" y="4191120"/>
            <a:ext cx="1844640" cy="19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2" descr="5_packaging_good"/>
          <p:cNvPicPr/>
          <p:nvPr/>
        </p:nvPicPr>
        <p:blipFill>
          <a:blip r:embed="rId1"/>
          <a:stretch/>
        </p:blipFill>
        <p:spPr>
          <a:xfrm>
            <a:off x="457200" y="914400"/>
            <a:ext cx="4400640" cy="361944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4"/>
          <p:cNvSpPr/>
          <p:nvPr/>
        </p:nvSpPr>
        <p:spPr>
          <a:xfrm>
            <a:off x="5029200" y="4722840"/>
            <a:ext cx="380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литая проба с мочой, причина для отказа в прием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457200" y="4724280"/>
            <a:ext cx="4495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кированные пробы, заполненные формы запро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9" descr="5_packaging_bad"/>
          <p:cNvPicPr/>
          <p:nvPr/>
        </p:nvPicPr>
        <p:blipFill>
          <a:blip r:embed="rId2"/>
          <a:stretch/>
        </p:blipFill>
        <p:spPr>
          <a:xfrm>
            <a:off x="5181480" y="990720"/>
            <a:ext cx="3353040" cy="3581280"/>
          </a:xfrm>
          <a:prstGeom prst="rect">
            <a:avLst/>
          </a:prstGeom>
          <a:ln w="0">
            <a:noFill/>
          </a:ln>
        </p:spPr>
      </p:pic>
      <p:sp>
        <p:nvSpPr>
          <p:cNvPr id="386" name="Oval 10"/>
          <p:cNvSpPr/>
          <p:nvPr/>
        </p:nvSpPr>
        <p:spPr>
          <a:xfrm>
            <a:off x="6934320" y="3276720"/>
            <a:ext cx="1600200" cy="12189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71928-106B-4E32-9B02-B50E75FAD6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3996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звать ошибки при взятии проб, которые могут привести к неправильным результатам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речислить пункты, которые должны быть включены в лабораторную информационную брошюру, разработанную для сотрудников, берущих пробы вне лаборатори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работать критерии отказа в приеме сомнительных про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писать систему обращения с пробами, включая сбор, транспортировку, хранение и уничтожени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ъяснить важность поддержания сохранности проб и обеспечения соблюдения всех нормативов и предписаний при транспортировке про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8CE91-4A2B-4339-AC32-F5E1607766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face_phone_results"/>
          <p:cNvPicPr/>
          <p:nvPr/>
        </p:nvPicPr>
        <p:blipFill>
          <a:blip r:embed="rId1"/>
          <a:stretch/>
        </p:blipFill>
        <p:spPr>
          <a:xfrm>
            <a:off x="6934320" y="914400"/>
            <a:ext cx="2057400" cy="156996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ействия в случае отказа в приеме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66294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вестите лицо, запросившее анали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росите другую пробу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регистрируйте отклоненные проб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храните отклоненные пробы на основании установленных критериев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ключительные ситуации могут потребовать анализа сомнительных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2" name="Picture 5" descr="5_quanitity_too_low"/>
          <p:cNvPicPr/>
          <p:nvPr/>
        </p:nvPicPr>
        <p:blipFill>
          <a:blip r:embed="rId2"/>
          <a:srcRect l="35893" t="0" r="10768" b="0"/>
          <a:stretch/>
        </p:blipFill>
        <p:spPr>
          <a:xfrm>
            <a:off x="6934320" y="2362320"/>
            <a:ext cx="1800000" cy="38098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6" descr="FIL19"/>
          <p:cNvPicPr/>
          <p:nvPr/>
        </p:nvPicPr>
        <p:blipFill>
          <a:blip r:embed="rId3"/>
          <a:stretch/>
        </p:blipFill>
        <p:spPr>
          <a:xfrm>
            <a:off x="7162920" y="4772160"/>
            <a:ext cx="1828800" cy="1271520"/>
          </a:xfrm>
          <a:prstGeom prst="rect">
            <a:avLst/>
          </a:prstGeom>
          <a:ln w="0">
            <a:noFill/>
          </a:ln>
        </p:spPr>
      </p:pic>
      <p:sp>
        <p:nvSpPr>
          <p:cNvPr id="394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4AD73-80E2-489A-8FAE-EC4E874156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80880" y="393840"/>
            <a:ext cx="86868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Журнал приема или регистрации проб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7" name="Picture 3" descr="slide 10"/>
          <p:cNvPicPr/>
          <p:nvPr/>
        </p:nvPicPr>
        <p:blipFill>
          <a:blip r:embed="rId1"/>
          <a:srcRect l="0" t="20116" r="0" b="14698"/>
          <a:stretch/>
        </p:blipFill>
        <p:spPr>
          <a:xfrm>
            <a:off x="6053040" y="1162080"/>
            <a:ext cx="2633760" cy="268128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4"/>
          <p:cNvSpPr/>
          <p:nvPr/>
        </p:nvSpPr>
        <p:spPr>
          <a:xfrm>
            <a:off x="457200" y="1143000"/>
            <a:ext cx="8458200" cy="50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лжен включать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и время вз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и время поступл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лаборатор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проб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мя паци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емографические данные, если требуются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своенный в лаборатории идентификационный номе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рашиваемое исследовани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E5C58-BB1E-42E0-AB58-0F60682EE5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слеживание проб – вручную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6320" y="1182600"/>
            <a:ext cx="8991360" cy="25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твердите получение, укажите дату и врем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декватно промаркируйте проб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раните вместе с запросом на анализ до тех пор, пока им не будет присвоен идентификационный номе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слеживайте аликвоты – их связь с исходной пробо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904B9-8D3E-45B4-9F29-A8A7174588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9" descr="5_sample_reqs"/>
          <p:cNvPicPr/>
          <p:nvPr/>
        </p:nvPicPr>
        <p:blipFill>
          <a:blip r:embed="rId1"/>
          <a:srcRect l="3908" t="4808" r="10746" b="4808"/>
          <a:stretch/>
        </p:blipFill>
        <p:spPr>
          <a:xfrm>
            <a:off x="4876920" y="3505320"/>
            <a:ext cx="3406680" cy="29318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5_date_stamp"/>
          <p:cNvPicPr/>
          <p:nvPr/>
        </p:nvPicPr>
        <p:blipFill>
          <a:blip r:embed="rId2"/>
          <a:srcRect l="25601" t="0" r="17067" b="0"/>
          <a:stretch/>
        </p:blipFill>
        <p:spPr>
          <a:xfrm>
            <a:off x="3657600" y="3657600"/>
            <a:ext cx="1065240" cy="24764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0" descr="5_req_form"/>
          <p:cNvPicPr/>
          <p:nvPr/>
        </p:nvPicPr>
        <p:blipFill>
          <a:blip r:embed="rId3"/>
          <a:stretch/>
        </p:blipFill>
        <p:spPr>
          <a:xfrm>
            <a:off x="1143000" y="3962520"/>
            <a:ext cx="2448000" cy="2135160"/>
          </a:xfrm>
          <a:prstGeom prst="rect">
            <a:avLst/>
          </a:prstGeom>
          <a:ln w="0">
            <a:noFill/>
          </a:ln>
        </p:spPr>
      </p:pic>
      <p:sp>
        <p:nvSpPr>
          <p:cNvPr id="408" name="TextBox 11"/>
          <p:cNvSpPr/>
          <p:nvPr/>
        </p:nvSpPr>
        <p:spPr>
          <a:xfrm>
            <a:off x="1676520" y="4114800"/>
            <a:ext cx="1752480" cy="1523880"/>
          </a:xfrm>
          <a:prstGeom prst="rect">
            <a:avLst/>
          </a:prstGeom>
          <a:solidFill>
            <a:srgbClr val="dbea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****ЛАБ. КАЧЕСТВА***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Запрос на исслед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Имя пациент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 рожде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Адрес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рач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об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:          Врем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533160" y="1599840"/>
            <a:ext cx="838188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нные в базе данных должны включат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дентификационный номе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нные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у и время взятия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ип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рашиваемое исслед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врача, запросившего исследовани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сто нахождения пациента (палата, клиника, поликлиника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зультаты анализ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у и время выдачи результа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Text Box 4"/>
          <p:cNvSpPr/>
          <p:nvPr/>
        </p:nvSpPr>
        <p:spPr>
          <a:xfrm>
            <a:off x="444600" y="6192720"/>
            <a:ext cx="84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95FEA-2E25-443C-86B4-C50E2C016F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457200" y="533520"/>
            <a:ext cx="8381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слеживание проб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а компьюте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609120" y="120960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бращайтесь со всеми пробами, как если бы они были инфекцион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Rectangle 2"/>
          <p:cNvSpPr/>
          <p:nvPr/>
        </p:nvSpPr>
        <p:spPr>
          <a:xfrm>
            <a:off x="457200" y="380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ращение с проб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9"/>
          <p:cNvGrpSpPr/>
          <p:nvPr/>
        </p:nvGrpSpPr>
        <p:grpSpPr>
          <a:xfrm>
            <a:off x="1600200" y="2362320"/>
            <a:ext cx="6400800" cy="3657600"/>
            <a:chOff x="1600200" y="2362320"/>
            <a:chExt cx="6400800" cy="3657600"/>
          </a:xfrm>
        </p:grpSpPr>
        <p:pic>
          <p:nvPicPr>
            <p:cNvPr id="417" name="Picture 6" descr="5730_lores"/>
            <p:cNvPicPr/>
            <p:nvPr/>
          </p:nvPicPr>
          <p:blipFill>
            <a:blip r:embed="rId1"/>
            <a:stretch/>
          </p:blipFill>
          <p:spPr>
            <a:xfrm>
              <a:off x="2057400" y="2467080"/>
              <a:ext cx="4229280" cy="316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Picture 7" descr="bio_hazrd_red_blk_cdc"/>
            <p:cNvPicPr/>
            <p:nvPr/>
          </p:nvPicPr>
          <p:blipFill>
            <a:blip r:embed="rId2"/>
            <a:stretch/>
          </p:blipFill>
          <p:spPr>
            <a:xfrm>
              <a:off x="5105520" y="3762360"/>
              <a:ext cx="289548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WordArt 8"/>
            <p:cNvSpPr txBox="1"/>
            <p:nvPr/>
          </p:nvSpPr>
          <p:spPr>
            <a:xfrm>
              <a:off x="1600200" y="2362320"/>
              <a:ext cx="6172200" cy="12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 Black"/>
                </a:rPr>
                <a:t>Общие меры предосторожности</a:t>
              </a:r>
              <a:endPara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420" name="Slide Number Placeholder 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F17D1-E93C-43DA-8722-ABAC2171D8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ooter Placeholder 8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ранение проб – задокументированные правил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6858000" cy="35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яющие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кие пробы храни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кой ср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каком мес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 каких условия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рганизацию хранения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4" name="Picture 4" descr="storage_fridge"/>
          <p:cNvPicPr/>
          <p:nvPr/>
        </p:nvPicPr>
        <p:blipFill>
          <a:blip r:embed="rId1"/>
          <a:srcRect l="22117" t="14899" r="33172" b="14899"/>
          <a:stretch/>
        </p:blipFill>
        <p:spPr>
          <a:xfrm>
            <a:off x="6172200" y="1905120"/>
            <a:ext cx="2522520" cy="2941560"/>
          </a:xfrm>
          <a:prstGeom prst="rect">
            <a:avLst/>
          </a:prstGeom>
          <a:ln w="0">
            <a:noFill/>
          </a:ln>
        </p:spPr>
      </p:pic>
      <p:sp>
        <p:nvSpPr>
          <p:cNvPr id="425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9EF9B-E426-42A4-8CC0-FEBAC19F5B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рок хранения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5562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йте правила по срокам хран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едите за пробами на хранении, за тем, сколько раз они были заморожены/разморожен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держивайте организованную и доступную систему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ведите график пересмотра всех проб в хранен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тановите процедуры по отслеживан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9" name="Picture 4" descr="freezer2"/>
          <p:cNvPicPr/>
          <p:nvPr/>
        </p:nvPicPr>
        <p:blipFill>
          <a:blip r:embed="rId1"/>
          <a:stretch/>
        </p:blipFill>
        <p:spPr>
          <a:xfrm>
            <a:off x="6019920" y="1600200"/>
            <a:ext cx="3046320" cy="4038480"/>
          </a:xfrm>
          <a:prstGeom prst="rect">
            <a:avLst/>
          </a:prstGeom>
          <a:ln w="0">
            <a:noFill/>
          </a:ln>
        </p:spPr>
      </p:pic>
      <p:sp>
        <p:nvSpPr>
          <p:cNvPr id="430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8DAB6-76AA-47FA-8161-9D31E138E8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ередача проб в другие (субподрядные) лаборатории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537920"/>
            <a:ext cx="86868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гистрируй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ереданные пробы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ату передач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фамилию лица,                                       передавшего пробу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ите и регистрируй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ремя выполнения анализ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оставка результатов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з субподрядной лаборатории в собственную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облемы с передачей проб на анализ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4" descr="4_log_book"/>
          <p:cNvPicPr/>
          <p:nvPr/>
        </p:nvPicPr>
        <p:blipFill>
          <a:blip r:embed="rId1"/>
          <a:stretch/>
        </p:blipFill>
        <p:spPr>
          <a:xfrm>
            <a:off x="5943600" y="1579680"/>
            <a:ext cx="2895480" cy="2382840"/>
          </a:xfrm>
          <a:prstGeom prst="rect">
            <a:avLst/>
          </a:prstGeom>
          <a:ln w="0">
            <a:noFill/>
          </a:ln>
        </p:spPr>
      </p:pic>
      <p:sp>
        <p:nvSpPr>
          <p:cNvPr id="435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40292-66D7-4DCF-A2F7-AFE00D7387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езопасное уничтожение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45820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тановленные правила по уничтожению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полнение местных и государственных прави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цедуры по обеззаражива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9" name="Picture 5" descr="biohazard_bag"/>
          <p:cNvPicPr/>
          <p:nvPr/>
        </p:nvPicPr>
        <p:blipFill>
          <a:blip r:embed="rId1"/>
          <a:stretch/>
        </p:blipFill>
        <p:spPr>
          <a:xfrm>
            <a:off x="3666960" y="4038480"/>
            <a:ext cx="2286000" cy="20653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6" descr="autoclave_cdc"/>
          <p:cNvPicPr/>
          <p:nvPr/>
        </p:nvPicPr>
        <p:blipFill>
          <a:blip r:embed="rId2"/>
          <a:srcRect l="20571" t="0" r="5143" b="12552"/>
          <a:stretch/>
        </p:blipFill>
        <p:spPr>
          <a:xfrm>
            <a:off x="619200" y="3962520"/>
            <a:ext cx="2666880" cy="214308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7" descr="MCj03266380000[1]"/>
          <p:cNvPicPr/>
          <p:nvPr/>
        </p:nvPicPr>
        <p:blipFill>
          <a:blip r:embed="rId3"/>
          <a:stretch/>
        </p:blipFill>
        <p:spPr>
          <a:xfrm>
            <a:off x="6029280" y="4038480"/>
            <a:ext cx="2505240" cy="2060640"/>
          </a:xfrm>
          <a:prstGeom prst="rect">
            <a:avLst/>
          </a:prstGeom>
          <a:ln w="0">
            <a:noFill/>
          </a:ln>
        </p:spPr>
      </p:pic>
      <p:sp>
        <p:nvSpPr>
          <p:cNvPr id="442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60A73-D9B3-4AB8-AA08-36EA445EEF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анспортировка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38188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14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ьте сохранность проб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мперату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ругие меры по                          поддержанию сохран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ециальные контейнеры               для транспортиров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граничения по времен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ьте соблюдение требований                                                        безопас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6" name="Picture 4" descr="5_sample_transport_priority"/>
          <p:cNvPicPr/>
          <p:nvPr/>
        </p:nvPicPr>
        <p:blipFill>
          <a:blip r:embed="rId1"/>
          <a:srcRect l="0" t="0" r="0" b="7285"/>
          <a:stretch/>
        </p:blipFill>
        <p:spPr>
          <a:xfrm>
            <a:off x="6437160" y="2077920"/>
            <a:ext cx="2401920" cy="2874960"/>
          </a:xfrm>
          <a:prstGeom prst="rect">
            <a:avLst/>
          </a:prstGeom>
          <a:ln w="0">
            <a:noFill/>
          </a:ln>
        </p:spPr>
      </p:pic>
      <p:sp>
        <p:nvSpPr>
          <p:cNvPr id="447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CAE4E-3480-4A9D-A200-E1B671B957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971440" y="4572000"/>
            <a:ext cx="5791320" cy="103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вы будете проверять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вы будете делать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Picture 4" descr="MCj04377970000[1]"/>
          <p:cNvPicPr/>
          <p:nvPr/>
        </p:nvPicPr>
        <p:blipFill>
          <a:blip r:embed="rId1"/>
          <a:stretch/>
        </p:blipFill>
        <p:spPr>
          <a:xfrm>
            <a:off x="533520" y="4267080"/>
            <a:ext cx="1981080" cy="17827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457200" y="762120"/>
            <a:ext cx="8305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Ситуация:</a:t>
            </a: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Ваша лаборатория провела ПЦР исследование на выявление вируса гриппа в пробах пациентов из «больницы А». Большинство результатов отрицатель-ные. Врачи «больницы А» утверждают, что у их пациентов наблюдаются явно выра-женные клинические симптомы гриппа».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94620-5281-4A6F-8193-7BFA27D24A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ooter Placeholder 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2"/>
          <p:cNvSpPr/>
          <p:nvPr/>
        </p:nvSpPr>
        <p:spPr>
          <a:xfrm>
            <a:off x="380880" y="609480"/>
            <a:ext cx="8534520" cy="22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едписания по транспортиров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799"/>
                </a:solidFill>
                <a:latin typeface="Franklin Gothic Medium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Откуда они берутся?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Кто их разрабатывает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3"/>
          <p:cNvSpPr/>
          <p:nvPr/>
        </p:nvSpPr>
        <p:spPr>
          <a:xfrm>
            <a:off x="228600" y="3321000"/>
            <a:ext cx="8686800" cy="24098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Государственные нормативы по транспортиров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Правила транспортировки по воздуху ИКАО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/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И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Организации наземного и морского транспорта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Служба доставки поч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Частные курьерские ком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CAF23-2BAC-4FD3-88FE-7F0FABE395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21" descr="images.jpg"/>
          <p:cNvPicPr/>
          <p:nvPr/>
        </p:nvPicPr>
        <p:blipFill>
          <a:blip r:embed="rId1"/>
          <a:stretch/>
        </p:blipFill>
        <p:spPr>
          <a:xfrm>
            <a:off x="2873520" y="4648320"/>
            <a:ext cx="741240" cy="704880"/>
          </a:xfrm>
          <a:prstGeom prst="rect">
            <a:avLst/>
          </a:prstGeom>
          <a:ln w="0">
            <a:noFill/>
          </a:ln>
        </p:spPr>
      </p:pic>
      <p:grpSp>
        <p:nvGrpSpPr>
          <p:cNvPr id="454" name="Group 16"/>
          <p:cNvGrpSpPr/>
          <p:nvPr/>
        </p:nvGrpSpPr>
        <p:grpSpPr>
          <a:xfrm>
            <a:off x="228600" y="1206360"/>
            <a:ext cx="8686440" cy="4965480"/>
            <a:chOff x="228600" y="1206360"/>
            <a:chExt cx="8686440" cy="4965480"/>
          </a:xfrm>
        </p:grpSpPr>
        <p:grpSp>
          <p:nvGrpSpPr>
            <p:cNvPr id="455" name="Organization Chart 2"/>
            <p:cNvGrpSpPr/>
            <p:nvPr/>
          </p:nvGrpSpPr>
          <p:grpSpPr>
            <a:xfrm>
              <a:off x="228600" y="1206360"/>
              <a:ext cx="8686440" cy="4965480"/>
              <a:chOff x="228600" y="1206360"/>
              <a:chExt cx="8686440" cy="4965480"/>
            </a:xfrm>
          </p:grpSpPr>
          <p:cxnSp>
            <p:nvCxnSpPr>
              <p:cNvPr id="456" name="_s218116"/>
              <p:cNvCxnSpPr>
                <a:stCxn id="457" idx="1"/>
                <a:endCxn id="458" idx="2"/>
              </p:cNvCxnSpPr>
              <p:nvPr/>
            </p:nvCxnSpPr>
            <p:spPr>
              <a:xfrm rot="10800000">
                <a:off x="2788920" y="2108880"/>
                <a:ext cx="776880" cy="3612240"/>
              </a:xfrm>
              <a:prstGeom prst="bentConnector2">
                <a:avLst/>
              </a:prstGeom>
              <a:ln w="28440">
                <a:solidFill>
                  <a:srgbClr val="540000"/>
                </a:solidFill>
                <a:miter/>
              </a:ln>
            </p:spPr>
          </p:cxnSp>
          <p:cxnSp>
            <p:nvCxnSpPr>
              <p:cNvPr id="459" name="_s218117"/>
              <p:cNvCxnSpPr>
                <a:stCxn id="460" idx="1"/>
                <a:endCxn id="458" idx="2"/>
              </p:cNvCxnSpPr>
              <p:nvPr/>
            </p:nvCxnSpPr>
            <p:spPr>
              <a:xfrm rot="10800000">
                <a:off x="2788920" y="2108880"/>
                <a:ext cx="776880" cy="2256480"/>
              </a:xfrm>
              <a:prstGeom prst="bentConnector2">
                <a:avLst/>
              </a:prstGeom>
              <a:ln w="28440">
                <a:solidFill>
                  <a:srgbClr val="540000"/>
                </a:solidFill>
                <a:miter/>
              </a:ln>
            </p:spPr>
          </p:cxnSp>
          <p:cxnSp>
            <p:nvCxnSpPr>
              <p:cNvPr id="461" name="_s218118"/>
              <p:cNvCxnSpPr>
                <a:stCxn id="462" idx="1"/>
                <a:endCxn id="458" idx="2"/>
              </p:cNvCxnSpPr>
              <p:nvPr/>
            </p:nvCxnSpPr>
            <p:spPr>
              <a:xfrm rot="10800000">
                <a:off x="2788920" y="2108880"/>
                <a:ext cx="776880" cy="903960"/>
              </a:xfrm>
              <a:prstGeom prst="bentConnector2">
                <a:avLst/>
              </a:prstGeom>
              <a:ln w="28440">
                <a:solidFill>
                  <a:srgbClr val="540000"/>
                </a:solidFill>
                <a:miter/>
              </a:ln>
            </p:spPr>
          </p:cxnSp>
          <p:sp>
            <p:nvSpPr>
              <p:cNvPr id="458" name="_s218119"/>
              <p:cNvSpPr/>
              <p:nvPr/>
            </p:nvSpPr>
            <p:spPr>
              <a:xfrm>
                <a:off x="228600" y="1206360"/>
                <a:ext cx="5120280" cy="903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9f67f"/>
                  </a:gs>
                  <a:gs pos="100000">
                    <a:srgbClr val="ffcc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Обязательное выполнение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_s218120"/>
              <p:cNvSpPr/>
              <p:nvPr/>
            </p:nvSpPr>
            <p:spPr>
              <a:xfrm>
                <a:off x="3565800" y="2560320"/>
                <a:ext cx="5349240" cy="903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66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Нарушения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_s218121"/>
              <p:cNvSpPr/>
              <p:nvPr/>
            </p:nvSpPr>
            <p:spPr>
              <a:xfrm>
                <a:off x="3565800" y="3914640"/>
                <a:ext cx="5349240" cy="903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66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Verdana"/>
                  </a:rPr>
                  <a:t>   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Правила по ликвидации последствий аварий и разлитий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–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снижение биологической опасност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_s218122"/>
              <p:cNvSpPr/>
              <p:nvPr/>
            </p:nvSpPr>
            <p:spPr>
              <a:xfrm>
                <a:off x="3565800" y="5268600"/>
                <a:ext cx="5349240" cy="903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66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Безопасность: курьеров, лабораторного персонала, пассажиров, перевозчико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AutoShape 11"/>
              <p:cNvSpPr/>
              <p:nvPr/>
            </p:nvSpPr>
            <p:spPr>
              <a:xfrm>
                <a:off x="5717520" y="2730240"/>
                <a:ext cx="835200" cy="685800"/>
              </a:xfrm>
              <a:custGeom>
                <a:avLst/>
                <a:gdLst>
                  <a:gd name="textAreaLeft" fmla="*/ 129960 w 835200"/>
                  <a:gd name="textAreaRight" fmla="*/ 730440 w 835200"/>
                  <a:gd name="textAreaTop" fmla="*/ 171360 h 685800"/>
                  <a:gd name="textAreaBottom" fmla="*/ 514440 h 685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200" y="0"/>
                    </a:moveTo>
                    <a:lnTo>
                      <a:pt x="16200" y="5400"/>
                    </a:lnTo>
                    <a:lnTo>
                      <a:pt x="3375" y="5400"/>
                    </a:lnTo>
                    <a:lnTo>
                      <a:pt x="3375" y="16200"/>
                    </a:lnTo>
                    <a:lnTo>
                      <a:pt x="16200" y="16200"/>
                    </a:lnTo>
                    <a:lnTo>
                      <a:pt x="16200" y="21600"/>
                    </a:lnTo>
                    <a:lnTo>
                      <a:pt x="21600" y="10800"/>
                    </a:lnTo>
                    <a:lnTo>
                      <a:pt x="16200" y="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1350" y="16200"/>
                    </a:lnTo>
                    <a:lnTo>
                      <a:pt x="2700" y="16200"/>
                    </a:lnTo>
                    <a:lnTo>
                      <a:pt x="2700" y="5400"/>
                    </a:lnTo>
                    <a:lnTo>
                      <a:pt x="1350" y="54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0" y="16200"/>
                    </a:lnTo>
                    <a:lnTo>
                      <a:pt x="675" y="16200"/>
                    </a:lnTo>
                    <a:lnTo>
                      <a:pt x="675" y="54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Picture 12"/>
              <p:cNvSpPr/>
              <p:nvPr/>
            </p:nvSpPr>
            <p:spPr>
              <a:xfrm>
                <a:off x="2819520" y="478764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65" name="Picture 13" descr="j0424198"/>
            <p:cNvPicPr/>
            <p:nvPr/>
          </p:nvPicPr>
          <p:blipFill>
            <a:blip r:embed="rId2"/>
            <a:stretch/>
          </p:blipFill>
          <p:spPr>
            <a:xfrm>
              <a:off x="6553440" y="2197080"/>
              <a:ext cx="2209680" cy="141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6" name="Text Box 2"/>
          <p:cNvSpPr/>
          <p:nvPr/>
        </p:nvSpPr>
        <p:spPr>
          <a:xfrm>
            <a:off x="152280" y="434880"/>
            <a:ext cx="87631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едписания по транспортиров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19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C98E1-5F9B-43AC-B4F5-0E81905BEF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ooter Placeholder 20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Slide Number Placeholder 1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2"/>
          <p:cNvSpPr/>
          <p:nvPr/>
        </p:nvSpPr>
        <p:spPr>
          <a:xfrm>
            <a:off x="304920" y="36972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14880" indent="-3314880" algn="r">
              <a:lnSpc>
                <a:spcPct val="100000"/>
              </a:lnSpc>
              <a:tabLst>
                <a:tab algn="l" pos="0"/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лассификация инфекцион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3"/>
          <p:cNvSpPr/>
          <p:nvPr/>
        </p:nvSpPr>
        <p:spPr>
          <a:xfrm>
            <a:off x="152280" y="145908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овая классификация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2005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г.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снована на 2 транспортных категор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4"/>
          <p:cNvSpPr/>
          <p:nvPr/>
        </p:nvSpPr>
        <p:spPr>
          <a:xfrm>
            <a:off x="304920" y="1969920"/>
            <a:ext cx="8762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419200" indent="-241920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Категория</a:t>
            </a: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 A</a:t>
            </a:r>
            <a:r>
              <a:rPr b="0" lang="ru-RU" sz="2400" spc="-1" strike="noStrike">
                <a:solidFill>
                  <a:srgbClr val="00007d"/>
                </a:solidFill>
                <a:latin typeface="Verdana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фекционные материалы, способные вызвать: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581200" indent="-342720">
              <a:lnSpc>
                <a:spcPct val="10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длительную нетрудоспособ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581200" indent="-342720">
              <a:lnSpc>
                <a:spcPct val="10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опасное для жизни или смертельное заболевание людей или людей и живот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581200" indent="-34272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19200" indent="-241920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паковка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иболее прочная тройная упаковка с наличием всех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кументов по опасному грузу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19200" indent="-241920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19200" indent="-241920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учение персонала, задействованного в перевоз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89023-062D-4847-B407-AFEA79E422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ooter Placeholder 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3"/>
          <p:cNvSpPr/>
          <p:nvPr/>
        </p:nvSpPr>
        <p:spPr>
          <a:xfrm>
            <a:off x="533520" y="1808280"/>
            <a:ext cx="8381880" cy="35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81360" indent="-2781360"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Категория Б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фекционные материалы, не входящие в категорию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81360" indent="-2781360"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81360" indent="-2781360">
              <a:lnSpc>
                <a:spcPct val="100000"/>
              </a:lnSpc>
              <a:spcBef>
                <a:spcPts val="1800"/>
              </a:spcBef>
              <a:buSzPct val="102805"/>
              <a:buBlip>
                <a:blip r:embed="rId1"/>
              </a:buBlip>
              <a:tabLst>
                <a:tab algn="l" pos="187200"/>
                <a:tab algn="l" pos="1803240"/>
                <a:tab algn="l" pos="209232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нее строгие требования к тройной упаков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81360" indent="-2781360">
              <a:lnSpc>
                <a:spcPct val="100000"/>
              </a:lnSpc>
              <a:spcBef>
                <a:spcPts val="1800"/>
              </a:spcBef>
              <a:buSzPct val="102805"/>
              <a:buBlip>
                <a:blip r:embed="rId2"/>
              </a:buBlip>
              <a:tabLst>
                <a:tab algn="l" pos="187200"/>
                <a:tab algn="l" pos="1803240"/>
                <a:tab algn="l" pos="209232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 требуется</a:t>
            </a: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кументации по опасному груз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3DB8-0CFA-4FBE-8138-62DCF5B6ED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2"/>
          <p:cNvSpPr/>
          <p:nvPr/>
        </p:nvSpPr>
        <p:spPr>
          <a:xfrm>
            <a:off x="304920" y="44604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14880" indent="-3314880" algn="r">
              <a:lnSpc>
                <a:spcPct val="100000"/>
              </a:lnSpc>
              <a:tabLst>
                <a:tab algn="l" pos="0"/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лассификация инфекцион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3"/>
          <p:cNvSpPr/>
          <p:nvPr/>
        </p:nvSpPr>
        <p:spPr>
          <a:xfrm>
            <a:off x="457200" y="482760"/>
            <a:ext cx="52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Исклю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4"/>
          <p:cNvSpPr/>
          <p:nvPr/>
        </p:nvSpPr>
        <p:spPr>
          <a:xfrm>
            <a:off x="304920" y="1146240"/>
            <a:ext cx="838188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ы, не содержащие инфекционного матери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ы, не содержащие патогенные организ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ы, содержащие нейтрализованные или инактивированные патог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ы из окружающей среды, не представляющие опасности за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ровь и компоненты крови, предназначенные для перели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кани и органы, разрешенные для трансплан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ы высушенной крови или для выявления скрытого кровотечения в фекалия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еззараженные медицинские и клинические отх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21724-189F-49B2-B49E-5A7F7D936D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2"/>
          <p:cNvSpPr/>
          <p:nvPr/>
        </p:nvSpPr>
        <p:spPr>
          <a:xfrm>
            <a:off x="380880" y="5715000"/>
            <a:ext cx="784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7d"/>
                </a:solidFill>
                <a:latin typeface="Verdana"/>
              </a:rPr>
              <a:t>14</a:t>
            </a:r>
            <a:r>
              <a:rPr b="1" lang="en-GB" sz="1400" spc="-1" strike="noStrike" baseline="30000">
                <a:solidFill>
                  <a:srgbClr val="00007d"/>
                </a:solidFill>
                <a:latin typeface="Verdana"/>
              </a:rPr>
              <a:t>th</a:t>
            </a:r>
            <a:r>
              <a:rPr b="1" lang="en-GB" sz="1400" spc="-1" strike="noStrike">
                <a:solidFill>
                  <a:srgbClr val="00007d"/>
                </a:solidFill>
                <a:latin typeface="Verdana"/>
              </a:rPr>
              <a:t> ed (rev) of UN Model Regulations</a:t>
            </a:r>
            <a:r>
              <a:rPr b="1" lang="fr-CH" sz="1400" spc="-1" strike="noStrike">
                <a:solidFill>
                  <a:srgbClr val="00007d"/>
                </a:solidFill>
                <a:latin typeface="Verdana"/>
              </a:rPr>
              <a:t> for the Transport of</a:t>
            </a:r>
            <a:r>
              <a:rPr b="1" lang="en-GB" sz="1400" spc="-1" strike="noStrike">
                <a:solidFill>
                  <a:srgbClr val="00007d"/>
                </a:solidFill>
                <a:latin typeface="Verdana"/>
              </a:rPr>
              <a:t> Infectious Substances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4"/>
          <p:cNvSpPr/>
          <p:nvPr/>
        </p:nvSpPr>
        <p:spPr>
          <a:xfrm>
            <a:off x="3124080" y="1828800"/>
            <a:ext cx="2971800" cy="37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ич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 вторич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избыточное давление 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5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чная наруж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мальный разм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сорбирующий матери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падение с выс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,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к 337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2"/>
          <p:cNvSpPr/>
          <p:nvPr/>
        </p:nvSpPr>
        <p:spPr>
          <a:xfrm>
            <a:off x="533520" y="42084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ойная упаковка 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ОН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 200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76320" y="1828800"/>
            <a:ext cx="2971800" cy="45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ич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 вторич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избыточное давление 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5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чная наруж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мальный разм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сорбирующий матери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падение с выс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перфорацию с силой 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ркировка и этикетки О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ная документация п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асному грузу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уч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buClr>
                <a:srgbClr val="66669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6" descr="UNMARK98"/>
          <p:cNvPicPr/>
          <p:nvPr/>
        </p:nvPicPr>
        <p:blipFill>
          <a:blip r:embed="rId1"/>
          <a:stretch/>
        </p:blipFill>
        <p:spPr>
          <a:xfrm>
            <a:off x="1566720" y="5791320"/>
            <a:ext cx="1557360" cy="339480"/>
          </a:xfrm>
          <a:prstGeom prst="rect">
            <a:avLst/>
          </a:prstGeom>
          <a:ln w="0">
            <a:noFill/>
          </a:ln>
        </p:spPr>
      </p:pic>
      <p:sp>
        <p:nvSpPr>
          <p:cNvPr id="488" name="Line 7"/>
          <p:cNvSpPr/>
          <p:nvPr/>
        </p:nvSpPr>
        <p:spPr>
          <a:xfrm>
            <a:off x="3124080" y="1106640"/>
            <a:ext cx="0" cy="50655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8"/>
          <p:cNvSpPr/>
          <p:nvPr/>
        </p:nvSpPr>
        <p:spPr>
          <a:xfrm>
            <a:off x="415800" y="1828800"/>
            <a:ext cx="82663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9"/>
          <p:cNvSpPr/>
          <p:nvPr/>
        </p:nvSpPr>
        <p:spPr>
          <a:xfrm>
            <a:off x="152280" y="121932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тегория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0"/>
          <p:cNvSpPr/>
          <p:nvPr/>
        </p:nvSpPr>
        <p:spPr>
          <a:xfrm>
            <a:off x="3352680" y="1219320"/>
            <a:ext cx="241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тегория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Group 2"/>
          <p:cNvGrpSpPr/>
          <p:nvPr/>
        </p:nvGrpSpPr>
        <p:grpSpPr>
          <a:xfrm>
            <a:off x="4800600" y="4749840"/>
            <a:ext cx="741240" cy="812880"/>
            <a:chOff x="4800600" y="4749840"/>
            <a:chExt cx="741240" cy="812880"/>
          </a:xfrm>
        </p:grpSpPr>
        <p:sp>
          <p:nvSpPr>
            <p:cNvPr id="493" name="AutoShape 11"/>
            <p:cNvSpPr/>
            <p:nvPr/>
          </p:nvSpPr>
          <p:spPr>
            <a:xfrm>
              <a:off x="4800600" y="4749840"/>
              <a:ext cx="741240" cy="812880"/>
            </a:xfrm>
            <a:prstGeom prst="flowChartDecision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Text Box 12"/>
            <p:cNvSpPr/>
            <p:nvPr/>
          </p:nvSpPr>
          <p:spPr>
            <a:xfrm>
              <a:off x="4854960" y="5029200"/>
              <a:ext cx="633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UN 337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1"/>
          <p:cNvGrpSpPr/>
          <p:nvPr/>
        </p:nvGrpSpPr>
        <p:grpSpPr>
          <a:xfrm>
            <a:off x="2260440" y="2540160"/>
            <a:ext cx="739800" cy="812520"/>
            <a:chOff x="2260440" y="2540160"/>
            <a:chExt cx="739800" cy="812520"/>
          </a:xfrm>
        </p:grpSpPr>
        <p:sp>
          <p:nvSpPr>
            <p:cNvPr id="496" name="AutoShape 3"/>
            <p:cNvSpPr/>
            <p:nvPr/>
          </p:nvSpPr>
          <p:spPr>
            <a:xfrm>
              <a:off x="2260440" y="2540160"/>
              <a:ext cx="739800" cy="812520"/>
            </a:xfrm>
            <a:prstGeom prst="flowChartDecision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7" name="Picture 13" descr="biohazard symbol II"/>
            <p:cNvPicPr/>
            <p:nvPr/>
          </p:nvPicPr>
          <p:blipFill>
            <a:blip r:embed="rId2"/>
            <a:stretch/>
          </p:blipFill>
          <p:spPr>
            <a:xfrm>
              <a:off x="2543040" y="2671920"/>
              <a:ext cx="183960" cy="19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Text Box 14"/>
            <p:cNvSpPr/>
            <p:nvPr/>
          </p:nvSpPr>
          <p:spPr>
            <a:xfrm>
              <a:off x="2523600" y="30765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Line 15"/>
          <p:cNvSpPr/>
          <p:nvPr/>
        </p:nvSpPr>
        <p:spPr>
          <a:xfrm>
            <a:off x="6095880" y="1106640"/>
            <a:ext cx="0" cy="50655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6"/>
          <p:cNvSpPr/>
          <p:nvPr/>
        </p:nvSpPr>
        <p:spPr>
          <a:xfrm>
            <a:off x="6095880" y="1106640"/>
            <a:ext cx="312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ы от людей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ивотных – исклю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lide Number Placeholder 1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568AE-9CD9-4AFB-A26F-75D1BB8E84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ooter Placeholder 18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4"/>
          <p:cNvSpPr/>
          <p:nvPr/>
        </p:nvSpPr>
        <p:spPr>
          <a:xfrm>
            <a:off x="6094440" y="1828800"/>
            <a:ext cx="297324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ич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 вторич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декватная наруж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мальный разм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сорбирующий матери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атегория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917E0-64B4-49D7-97AB-E2FD8E5817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8" descr=""/>
          <p:cNvPicPr/>
          <p:nvPr/>
        </p:nvPicPr>
        <p:blipFill>
          <a:blip r:embed="rId1"/>
          <a:stretch/>
        </p:blipFill>
        <p:spPr>
          <a:xfrm>
            <a:off x="214200" y="1285920"/>
            <a:ext cx="8715600" cy="48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Управление транспортировкой проб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5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блюдайте все необходимые правил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ите персонал всем процедурам транспортиров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ьте сохранность проб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мператур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ремя транспортировк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паковка и другие меры сохран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DB6C8-C3B6-46DF-AD5D-FD9C6C8AE4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420840"/>
            <a:ext cx="39625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80520" y="1212480"/>
            <a:ext cx="86108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ьте лабораторной информацион-ной брошюрой всех пользователе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ведите систему отслеживания пути перемещения проб по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и внедрите правила по хранению и уничтожению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ите за сохранностью проб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ьте соблюдение всех предписаний и нормативов по транспортировке проб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15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Verdana"/>
              </a:rPr>
              <a:t>Всегда следуйте общим правилам техники безопасност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397A3-A174-4F45-9FE4-C1B4801B2F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аборатория должна получать качественные пробы для того, чтобы обеспечить как правильность и надежность анализов, так и уверенность в их результатах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ращение с пробами напрямую влияет на ход и результаты лечения больны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3468E-6516-4D76-B894-378444D147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982B3-4910-4BD9-9A77-BFC65F39CA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44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9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60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1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3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6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9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70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75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80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84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7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93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6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9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Footer Placeholder 1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70584-0885-4923-8BBD-A866095D4A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2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523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7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538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539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540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2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3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4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545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7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548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549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1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2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3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54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6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59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2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63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66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8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1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72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4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75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7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78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0" name="Footer Placeholder 1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52280" y="434880"/>
            <a:ext cx="8763120" cy="23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Результат любого лабораторного анализа будет хорош настолько, насколько хорошей была полученная лабораторией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роба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533520" y="60948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1828800" y="5638680"/>
            <a:ext cx="58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j0177963"/>
          <p:cNvPicPr/>
          <p:nvPr/>
        </p:nvPicPr>
        <p:blipFill>
          <a:blip r:embed="rId1"/>
          <a:stretch/>
        </p:blipFill>
        <p:spPr>
          <a:xfrm>
            <a:off x="4800600" y="3200400"/>
            <a:ext cx="3657600" cy="2438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j0400583"/>
          <p:cNvPicPr/>
          <p:nvPr/>
        </p:nvPicPr>
        <p:blipFill>
          <a:blip r:embed="rId2"/>
          <a:stretch/>
        </p:blipFill>
        <p:spPr>
          <a:xfrm>
            <a:off x="1447920" y="2898720"/>
            <a:ext cx="2495520" cy="3121200"/>
          </a:xfrm>
          <a:prstGeom prst="rect">
            <a:avLst/>
          </a:prstGeom>
          <a:ln w="0">
            <a:noFill/>
          </a:ln>
        </p:spPr>
      </p:pic>
      <p:sp>
        <p:nvSpPr>
          <p:cNvPr id="207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87C4D-EFB9-4418-849D-CDDE3C0850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6" descr=""/>
          <p:cNvPicPr/>
          <p:nvPr/>
        </p:nvPicPr>
        <p:blipFill>
          <a:blip r:embed="rId1"/>
          <a:stretch/>
        </p:blipFill>
        <p:spPr>
          <a:xfrm>
            <a:off x="6095880" y="4000680"/>
            <a:ext cx="2138400" cy="26287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5" descr=""/>
          <p:cNvPicPr/>
          <p:nvPr/>
        </p:nvPicPr>
        <p:blipFill>
          <a:blip r:embed="rId2"/>
          <a:stretch/>
        </p:blipFill>
        <p:spPr>
          <a:xfrm>
            <a:off x="838080" y="1214280"/>
            <a:ext cx="2468520" cy="1676520"/>
          </a:xfrm>
          <a:prstGeom prst="rect">
            <a:avLst/>
          </a:prstGeom>
          <a:ln w="0">
            <a:noFill/>
          </a:ln>
        </p:spPr>
      </p:pic>
      <p:sp>
        <p:nvSpPr>
          <p:cNvPr id="211" name="Footer Placeholder 1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250F7-8BCE-4D23-8E38-1752BF37DC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Diagram 2"/>
          <p:cNvGrpSpPr/>
          <p:nvPr/>
        </p:nvGrpSpPr>
        <p:grpSpPr>
          <a:xfrm>
            <a:off x="307800" y="649440"/>
            <a:ext cx="8606880" cy="5639760"/>
            <a:chOff x="307800" y="649440"/>
            <a:chExt cx="8606880" cy="5639760"/>
          </a:xfrm>
        </p:grpSpPr>
        <p:sp>
          <p:nvSpPr>
            <p:cNvPr id="214" name="Picture 5"/>
            <p:cNvSpPr/>
            <p:nvPr/>
          </p:nvSpPr>
          <p:spPr>
            <a:xfrm>
              <a:off x="912600" y="1219680"/>
              <a:ext cx="2394720" cy="163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6150"/>
            <p:cNvSpPr/>
            <p:nvPr/>
          </p:nvSpPr>
          <p:spPr>
            <a:xfrm flipH="1">
              <a:off x="2455200" y="3468240"/>
              <a:ext cx="10796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6151"/>
            <p:cNvSpPr/>
            <p:nvPr/>
          </p:nvSpPr>
          <p:spPr>
            <a:xfrm>
              <a:off x="307800" y="2764440"/>
              <a:ext cx="2512800" cy="14094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Влияет на продуктивность лаборатор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6152"/>
            <p:cNvSpPr/>
            <p:nvPr/>
          </p:nvSpPr>
          <p:spPr>
            <a:xfrm>
              <a:off x="4609440" y="4171680"/>
              <a:ext cx="0" cy="707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6153"/>
            <p:cNvSpPr/>
            <p:nvPr/>
          </p:nvSpPr>
          <p:spPr>
            <a:xfrm>
              <a:off x="3535200" y="4879800"/>
              <a:ext cx="2151000" cy="1409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Прямо влияет на лечение и его результа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6154"/>
            <p:cNvSpPr/>
            <p:nvPr/>
          </p:nvSpPr>
          <p:spPr>
            <a:xfrm>
              <a:off x="5683680" y="3468240"/>
              <a:ext cx="10796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6155"/>
            <p:cNvSpPr/>
            <p:nvPr/>
          </p:nvSpPr>
          <p:spPr>
            <a:xfrm>
              <a:off x="6763680" y="2764440"/>
              <a:ext cx="2151000" cy="14094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Влияет на решения врач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6156"/>
            <p:cNvSpPr/>
            <p:nvPr/>
          </p:nvSpPr>
          <p:spPr>
            <a:xfrm flipV="1">
              <a:off x="4609440" y="2056680"/>
              <a:ext cx="0" cy="7074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6157"/>
            <p:cNvSpPr/>
            <p:nvPr/>
          </p:nvSpPr>
          <p:spPr>
            <a:xfrm>
              <a:off x="3200760" y="649440"/>
              <a:ext cx="2796120" cy="14094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000000"/>
                  </a:solidFill>
                  <a:latin typeface="Verdana"/>
                </a:rPr>
                <a:t>Обязательно для правильного лабораторного диагноз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6158"/>
            <p:cNvSpPr/>
            <p:nvPr/>
          </p:nvSpPr>
          <p:spPr>
            <a:xfrm>
              <a:off x="3535200" y="2764440"/>
              <a:ext cx="2151000" cy="14094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Good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ampl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Rectangle 46"/>
          <p:cNvSpPr/>
          <p:nvPr/>
        </p:nvSpPr>
        <p:spPr>
          <a:xfrm>
            <a:off x="3048120" y="2514600"/>
            <a:ext cx="3276360" cy="1905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7"/>
          <p:cNvSpPr/>
          <p:nvPr/>
        </p:nvSpPr>
        <p:spPr>
          <a:xfrm>
            <a:off x="3352680" y="274320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d911"/>
                </a:solidFill>
                <a:latin typeface="Verdana"/>
              </a:rPr>
              <a:t>Правильное обращение с проб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6" descr=""/>
          <p:cNvPicPr/>
          <p:nvPr/>
        </p:nvPicPr>
        <p:blipFill>
          <a:blip r:embed="rId1"/>
          <a:stretch/>
        </p:blipFill>
        <p:spPr>
          <a:xfrm>
            <a:off x="2322360" y="990720"/>
            <a:ext cx="1106640" cy="10303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2" descr=""/>
          <p:cNvPicPr/>
          <p:nvPr/>
        </p:nvPicPr>
        <p:blipFill>
          <a:blip r:embed="rId2"/>
          <a:stretch/>
        </p:blipFill>
        <p:spPr>
          <a:xfrm>
            <a:off x="1233360" y="4876920"/>
            <a:ext cx="822600" cy="822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9" descr=""/>
          <p:cNvPicPr/>
          <p:nvPr/>
        </p:nvPicPr>
        <p:blipFill>
          <a:blip r:embed="rId3"/>
          <a:stretch/>
        </p:blipFill>
        <p:spPr>
          <a:xfrm>
            <a:off x="5881680" y="4754520"/>
            <a:ext cx="933480" cy="9334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8" descr=""/>
          <p:cNvPicPr/>
          <p:nvPr/>
        </p:nvPicPr>
        <p:blipFill>
          <a:blip r:embed="rId4"/>
          <a:stretch/>
        </p:blipFill>
        <p:spPr>
          <a:xfrm>
            <a:off x="7775640" y="5083200"/>
            <a:ext cx="1147680" cy="10126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7" descr=""/>
          <p:cNvPicPr/>
          <p:nvPr/>
        </p:nvPicPr>
        <p:blipFill>
          <a:blip r:embed="rId5"/>
          <a:stretch/>
        </p:blipFill>
        <p:spPr>
          <a:xfrm>
            <a:off x="7391520" y="2597040"/>
            <a:ext cx="1301760" cy="13654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5_req_form"/>
          <p:cNvPicPr/>
          <p:nvPr/>
        </p:nvPicPr>
        <p:blipFill>
          <a:blip r:embed="rId6"/>
          <a:stretch/>
        </p:blipFill>
        <p:spPr>
          <a:xfrm>
            <a:off x="533520" y="1219320"/>
            <a:ext cx="1676160" cy="1463400"/>
          </a:xfrm>
          <a:prstGeom prst="rect">
            <a:avLst/>
          </a:prstGeom>
          <a:ln w="0">
            <a:noFill/>
          </a:ln>
        </p:spPr>
      </p:pic>
      <p:sp>
        <p:nvSpPr>
          <p:cNvPr id="232" name="TextBox 25"/>
          <p:cNvSpPr/>
          <p:nvPr/>
        </p:nvSpPr>
        <p:spPr>
          <a:xfrm>
            <a:off x="938160" y="1266840"/>
            <a:ext cx="1195560" cy="1083600"/>
          </a:xfrm>
          <a:prstGeom prst="rect">
            <a:avLst/>
          </a:prstGeom>
          <a:solidFill>
            <a:srgbClr val="dbea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**ЛАБ. КАЧЕСТВА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Запрос на исследован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Имя пациента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Дата рождения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Адрес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Врач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Проба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Дата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57" descr="j0404235"/>
          <p:cNvPicPr/>
          <p:nvPr/>
        </p:nvPicPr>
        <p:blipFill>
          <a:blip r:embed="rId7"/>
          <a:stretch/>
        </p:blipFill>
        <p:spPr>
          <a:xfrm>
            <a:off x="5881680" y="5622840"/>
            <a:ext cx="1044720" cy="11415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4" descr="5-sample_containers"/>
          <p:cNvPicPr/>
          <p:nvPr/>
        </p:nvPicPr>
        <p:blipFill>
          <a:blip r:embed="rId8"/>
          <a:srcRect l="0" t="27693" r="0" b="0"/>
          <a:stretch/>
        </p:blipFill>
        <p:spPr>
          <a:xfrm>
            <a:off x="5638680" y="838080"/>
            <a:ext cx="1536840" cy="1193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5" descr="6216_thumb"/>
          <p:cNvPicPr/>
          <p:nvPr/>
        </p:nvPicPr>
        <p:blipFill>
          <a:blip r:embed="rId9"/>
          <a:stretch/>
        </p:blipFill>
        <p:spPr>
          <a:xfrm>
            <a:off x="7315200" y="1447920"/>
            <a:ext cx="1398600" cy="909360"/>
          </a:xfrm>
          <a:prstGeom prst="rect">
            <a:avLst/>
          </a:prstGeom>
          <a:ln w="0">
            <a:noFill/>
          </a:ln>
        </p:spPr>
      </p:pic>
      <p:grpSp>
        <p:nvGrpSpPr>
          <p:cNvPr id="236" name="Diagram 2"/>
          <p:cNvGrpSpPr/>
          <p:nvPr/>
        </p:nvGrpSpPr>
        <p:grpSpPr>
          <a:xfrm>
            <a:off x="1066680" y="915840"/>
            <a:ext cx="7773480" cy="5486040"/>
            <a:chOff x="1066680" y="915840"/>
            <a:chExt cx="7773480" cy="5486040"/>
          </a:xfrm>
        </p:grpSpPr>
        <p:sp>
          <p:nvSpPr>
            <p:cNvPr id="237" name="Picture 4"/>
            <p:cNvSpPr/>
            <p:nvPr/>
          </p:nvSpPr>
          <p:spPr>
            <a:xfrm rot="21392400">
              <a:off x="7697160" y="2742840"/>
              <a:ext cx="968400" cy="95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10245"/>
            <p:cNvSpPr/>
            <p:nvPr/>
          </p:nvSpPr>
          <p:spPr>
            <a:xfrm flipH="1" flipV="1">
              <a:off x="3309840" y="292212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10247"/>
            <p:cNvSpPr/>
            <p:nvPr/>
          </p:nvSpPr>
          <p:spPr>
            <a:xfrm flipH="1">
              <a:off x="3309840" y="392760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_s10248"/>
            <p:cNvSpPr/>
            <p:nvPr/>
          </p:nvSpPr>
          <p:spPr>
            <a:xfrm>
              <a:off x="1548360" y="3962520"/>
              <a:ext cx="1883160" cy="11707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7d"/>
                  </a:solidFill>
                  <a:latin typeface="Verdana"/>
                </a:rPr>
                <a:t>Транспортиров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10249"/>
            <p:cNvSpPr/>
            <p:nvPr/>
          </p:nvSpPr>
          <p:spPr>
            <a:xfrm>
              <a:off x="4876560" y="4262400"/>
              <a:ext cx="0" cy="66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_s10250"/>
            <p:cNvSpPr/>
            <p:nvPr/>
          </p:nvSpPr>
          <p:spPr>
            <a:xfrm>
              <a:off x="3624840" y="4932000"/>
              <a:ext cx="247140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7d"/>
                  </a:solidFill>
                  <a:latin typeface="Verdana"/>
                </a:rPr>
                <a:t> </a:t>
              </a:r>
              <a:r>
                <a:rPr b="0" lang="ru-RU" sz="1800" spc="-1" strike="noStrike">
                  <a:solidFill>
                    <a:srgbClr val="00007d"/>
                  </a:solidFill>
                  <a:latin typeface="Verdana"/>
                </a:rPr>
                <a:t>Сроки и условия хранения, уничтож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10251"/>
            <p:cNvSpPr/>
            <p:nvPr/>
          </p:nvSpPr>
          <p:spPr>
            <a:xfrm>
              <a:off x="5659560" y="3927600"/>
              <a:ext cx="817560" cy="33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0252"/>
            <p:cNvSpPr/>
            <p:nvPr/>
          </p:nvSpPr>
          <p:spPr>
            <a:xfrm>
              <a:off x="6327000" y="3927600"/>
              <a:ext cx="2513160" cy="12056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7d"/>
                  </a:solidFill>
                  <a:latin typeface="Verdana"/>
                </a:rPr>
                <a:t> </a:t>
              </a:r>
              <a:r>
                <a:rPr b="0" lang="ru-RU" sz="1800" spc="-1" strike="noStrike">
                  <a:solidFill>
                    <a:srgbClr val="00007d"/>
                  </a:solidFill>
                  <a:latin typeface="Verdana"/>
                </a:rPr>
                <a:t>Оценка, обработка, отслежива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0253"/>
            <p:cNvSpPr/>
            <p:nvPr/>
          </p:nvSpPr>
          <p:spPr>
            <a:xfrm flipV="1">
              <a:off x="5659560" y="292464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_s10254"/>
            <p:cNvSpPr/>
            <p:nvPr/>
          </p:nvSpPr>
          <p:spPr>
            <a:xfrm>
              <a:off x="6321600" y="192060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7d"/>
                  </a:solidFill>
                  <a:latin typeface="Verdana"/>
                </a:rPr>
                <a:t>Маркиров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10255"/>
            <p:cNvSpPr/>
            <p:nvPr/>
          </p:nvSpPr>
          <p:spPr>
            <a:xfrm flipH="1" flipV="1">
              <a:off x="4622400" y="2255040"/>
              <a:ext cx="253800" cy="66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10257"/>
            <p:cNvSpPr/>
            <p:nvPr/>
          </p:nvSpPr>
          <p:spPr>
            <a:xfrm>
              <a:off x="3971880" y="292500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Picture 18"/>
            <p:cNvSpPr/>
            <p:nvPr/>
          </p:nvSpPr>
          <p:spPr>
            <a:xfrm>
              <a:off x="3429360" y="5562360"/>
              <a:ext cx="658800" cy="83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Picture 19"/>
            <p:cNvSpPr/>
            <p:nvPr/>
          </p:nvSpPr>
          <p:spPr>
            <a:xfrm>
              <a:off x="1066680" y="4953240"/>
              <a:ext cx="9658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Picture 11"/>
            <p:cNvSpPr/>
            <p:nvPr/>
          </p:nvSpPr>
          <p:spPr>
            <a:xfrm>
              <a:off x="7620480" y="4953240"/>
              <a:ext cx="1065960" cy="9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Picture 19"/>
            <p:cNvSpPr/>
            <p:nvPr/>
          </p:nvSpPr>
          <p:spPr>
            <a:xfrm>
              <a:off x="7239600" y="3351600"/>
              <a:ext cx="83880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Picture 13"/>
            <p:cNvSpPr/>
            <p:nvPr/>
          </p:nvSpPr>
          <p:spPr>
            <a:xfrm>
              <a:off x="1066680" y="3580560"/>
              <a:ext cx="1071360" cy="83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Picture 7"/>
            <p:cNvSpPr/>
            <p:nvPr/>
          </p:nvSpPr>
          <p:spPr>
            <a:xfrm>
              <a:off x="2818080" y="1293480"/>
              <a:ext cx="1294200" cy="10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Picture 14"/>
            <p:cNvSpPr/>
            <p:nvPr/>
          </p:nvSpPr>
          <p:spPr>
            <a:xfrm>
              <a:off x="5562000" y="4494960"/>
              <a:ext cx="1143000" cy="99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Picture 25"/>
            <p:cNvSpPr/>
            <p:nvPr/>
          </p:nvSpPr>
          <p:spPr>
            <a:xfrm>
              <a:off x="4276080" y="2830680"/>
              <a:ext cx="1200960" cy="15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246"/>
            <p:cNvSpPr/>
            <p:nvPr/>
          </p:nvSpPr>
          <p:spPr>
            <a:xfrm>
              <a:off x="1370880" y="1918080"/>
              <a:ext cx="206100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r>
                <a:rPr b="0" lang="ru-RU" sz="1600" spc="-1" strike="noStrike">
                  <a:solidFill>
                    <a:srgbClr val="00007d"/>
                  </a:solidFill>
                  <a:latin typeface="Verdana"/>
                </a:rPr>
                <a:t>Необходимая информация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10256"/>
            <p:cNvSpPr/>
            <p:nvPr/>
          </p:nvSpPr>
          <p:spPr>
            <a:xfrm>
              <a:off x="3466440" y="915840"/>
              <a:ext cx="2314800" cy="13395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7d"/>
                  </a:solidFill>
                  <a:latin typeface="Verdana"/>
                </a:rPr>
                <a:t>Взятие, сохран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41"/>
          <p:cNvSpPr/>
          <p:nvPr/>
        </p:nvSpPr>
        <p:spPr>
          <a:xfrm>
            <a:off x="3456000" y="2556000"/>
            <a:ext cx="2844720" cy="20444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d911"/>
                </a:solidFill>
                <a:latin typeface="Verdana"/>
              </a:rPr>
              <a:t>Лабораторная информацион-ная брошюра</a:t>
            </a:r>
            <a:br>
              <a:rPr sz="2400"/>
            </a:br>
            <a:r>
              <a:rPr b="0" lang="ru-RU" sz="2800" spc="-1" strike="noStrike">
                <a:solidFill>
                  <a:srgbClr val="ffd911"/>
                </a:solidFill>
                <a:latin typeface="Verdana"/>
              </a:rPr>
              <a:t>Правила и прак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8" descr=""/>
          <p:cNvPicPr/>
          <p:nvPr/>
        </p:nvPicPr>
        <p:blipFill>
          <a:blip r:embed="rId10"/>
          <a:stretch/>
        </p:blipFill>
        <p:spPr>
          <a:xfrm>
            <a:off x="2209680" y="5562720"/>
            <a:ext cx="838440" cy="54756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2"/>
          <p:cNvSpPr/>
          <p:nvPr/>
        </p:nvSpPr>
        <p:spPr>
          <a:xfrm>
            <a:off x="457200" y="48564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омпон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31" descr=""/>
          <p:cNvPicPr/>
          <p:nvPr/>
        </p:nvPicPr>
        <p:blipFill>
          <a:blip r:embed="rId11"/>
          <a:stretch/>
        </p:blipFill>
        <p:spPr>
          <a:xfrm rot="240000">
            <a:off x="993600" y="3697200"/>
            <a:ext cx="1140120" cy="6588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8" descr="j0205510"/>
          <p:cNvPicPr/>
          <p:nvPr/>
        </p:nvPicPr>
        <p:blipFill>
          <a:blip r:embed="rId12"/>
          <a:stretch/>
        </p:blipFill>
        <p:spPr>
          <a:xfrm>
            <a:off x="380880" y="4114800"/>
            <a:ext cx="1219320" cy="1217520"/>
          </a:xfrm>
          <a:prstGeom prst="rect">
            <a:avLst/>
          </a:prstGeom>
          <a:ln w="0">
            <a:noFill/>
          </a:ln>
        </p:spPr>
      </p:pic>
      <p:sp>
        <p:nvSpPr>
          <p:cNvPr id="264" name="Footer Placeholder 2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2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46508-F72A-4FEC-A92C-90CFDB28C6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абораторная информационная брошюр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830240"/>
            <a:ext cx="807732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держит информацию, необходимую для сотрудников, берущих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ступно во всех пунктах забора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о быть известно всем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трудникам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а быть ссылка 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абораторном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уководстве по качеств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71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E1C42-5CBA-4FE9-8A2C-F06C5AA0C2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ooter Placeholder 72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6" descr="j0359051"/>
          <p:cNvPicPr/>
          <p:nvPr/>
        </p:nvPicPr>
        <p:blipFill>
          <a:blip r:embed="rId1"/>
          <a:stretch/>
        </p:blipFill>
        <p:spPr>
          <a:xfrm>
            <a:off x="5181480" y="3124080"/>
            <a:ext cx="3262320" cy="295128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5638680" y="3352680"/>
            <a:ext cx="990720" cy="1169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04920" y="1932120"/>
            <a:ext cx="853416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вание и адрес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актные ФИО и номера телефон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асы рабо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писок анализов, выполняемых лаборатори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дуры для сбора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авила транспортировк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емя выполнения анализа (время оборота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авила срочного выполнения анализов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B0477-7A28-422A-B740-FBE3E23A89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"/>
          <p:cNvSpPr/>
          <p:nvPr/>
        </p:nvSpPr>
        <p:spPr>
          <a:xfrm>
            <a:off x="457200" y="4330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держание лабораторной информационной брошю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1T12:33:26Z</dcterms:modified>
  <cp:revision>254</cp:revision>
  <dc:subject/>
  <dc:title>Slide 1</dc:title>
</cp:coreProperties>
</file>